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5A74-90A7-4FC3-BC5F-7E4386F8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5472-5DA5-4AA0-8982-C47376D1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4E82-1F35-4801-A06F-CC2F4B5A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A30A-EEE0-482E-B12C-BB741BE6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76C7-5289-4640-B48E-53C0F14D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D342-32A2-4D6B-B8A6-5A06BF92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9848-040B-44D1-81FF-2AF62694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310B-7318-4BFD-BBD8-9080BD88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E78C-B5E3-4DC3-AF4A-3BA085AD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9862-CEF0-47C0-9A11-2BB6E4DA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DE72-7B47-437F-93A0-B9F2163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C48C-0B95-404B-8625-E59F2E2C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H01926J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019560"/>
            <a:ext cx="685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EE32-71A5-47CC-A7F4-187EAAA6EA98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PH01926J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ngelismarriti.it/ANGELISMARRITI-ENG/home-ENG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14.4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ushing Back the Ax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llies defeat Germany and Italy by coordinating war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B17F-FA22-4675-BE21-B861B3703F9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 Island Ho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o take over specific islands in the Pacific in order to establish bases as close as possible to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llowed for airfields, docks,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. MacArthur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victory in the battle of Leyte Gulf,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naval battle i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mikazes implemented by Japan (15,000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3795-F9FB-48B6-B246-878DCEBDECD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mika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Image:USS Bunker Hill hit by two Kamikazes.jpg"/>
          <p:cNvPicPr/>
          <p:nvPr/>
        </p:nvPicPr>
        <p:blipFill>
          <a:blip r:embed="rId1"/>
          <a:stretch/>
        </p:blipFill>
        <p:spPr>
          <a:xfrm>
            <a:off x="0" y="1063800"/>
            <a:ext cx="838188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7418-E38D-4195-991D-1EE0875E7430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age:Kamikaze zero.jpg"/>
          <p:cNvPicPr/>
          <p:nvPr/>
        </p:nvPicPr>
        <p:blipFill>
          <a:blip r:embed="rId1"/>
          <a:stretch/>
        </p:blipFill>
        <p:spPr>
          <a:xfrm>
            <a:off x="380880" y="27000"/>
            <a:ext cx="83822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9FB9-4AB3-4BC2-A9BD-7BB3BA3DB9C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. Dwight Eisenh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upreme Commander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9048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2"/>
          <p:cNvGrpSpPr/>
          <p:nvPr/>
        </p:nvGrpSpPr>
        <p:grpSpPr>
          <a:xfrm>
            <a:off x="1828800" y="1800360"/>
            <a:ext cx="5486400" cy="3170160"/>
            <a:chOff x="1828800" y="1800360"/>
            <a:chExt cx="5486400" cy="3170160"/>
          </a:xfrm>
        </p:grpSpPr>
        <p:sp>
          <p:nvSpPr>
            <p:cNvPr id="128" name="Rectangle 9"/>
            <p:cNvSpPr/>
            <p:nvPr/>
          </p:nvSpPr>
          <p:spPr>
            <a:xfrm>
              <a:off x="1828800" y="1800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>
              <a:off x="1828800" y="1800360"/>
              <a:ext cx="548640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11" descr="Photograph, The Supreme Allied Commander at 8th Infantry Division headquarters in Belgium, November 1944."/>
          <p:cNvPicPr/>
          <p:nvPr/>
        </p:nvPicPr>
        <p:blipFill>
          <a:blip r:embed="rId1"/>
          <a:stretch/>
        </p:blipFill>
        <p:spPr>
          <a:xfrm>
            <a:off x="3200400" y="1447920"/>
            <a:ext cx="344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8B25-BEFF-464C-8DEF-4D058A7E0A0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.S. &amp; Britain Join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Pla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top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Germany defeated, then all three can concentrate o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Increase the # of bombs dropped on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1E72-08D6-48F3-A29D-44F94F899AA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Italian Campaign (19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Italy from the              south in Sicil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captured and     executed; hung in tow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teu"/>
          <p:cNvPicPr/>
          <p:nvPr/>
        </p:nvPicPr>
        <p:blipFill>
          <a:blip r:embed="rId1"/>
          <a:stretch/>
        </p:blipFill>
        <p:spPr>
          <a:xfrm>
            <a:off x="6019920" y="0"/>
            <a:ext cx="3274920" cy="358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EISENHOWER-194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429000"/>
            <a:ext cx="2600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6456-44B7-4679-BDD7-EE0A6832E6FC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sicily-ship"/>
          <p:cNvPicPr/>
          <p:nvPr/>
        </p:nvPicPr>
        <p:blipFill>
          <a:blip r:embed="rId1"/>
          <a:stretch/>
        </p:blipFill>
        <p:spPr>
          <a:xfrm>
            <a:off x="228600" y="1371600"/>
            <a:ext cx="6651720" cy="4479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unitions cargo ship bombed by Germans; Italia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6FD4-6F61-42A0-AB2A-F0D1E8D64B0D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 Landing i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-Day: June 6, 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ay Allies invaded France; led by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Planned for 2 y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Lead by 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Bombed supply routes (ro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s, RR) for 6 wk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2,500 killed (matter of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 Allowed Gen Patton and his m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Paris via St. 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4" descr="250px-Pattonphoto"/>
          <p:cNvPicPr/>
          <p:nvPr/>
        </p:nvPicPr>
        <p:blipFill>
          <a:blip r:embed="rId2"/>
          <a:stretch/>
        </p:blipFill>
        <p:spPr>
          <a:xfrm>
            <a:off x="6248520" y="4038480"/>
            <a:ext cx="2141280" cy="281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EISENHOWER-1945"/>
          <p:cNvPicPr/>
          <p:nvPr/>
        </p:nvPicPr>
        <p:blipFill>
          <a:blip r:embed="rId3"/>
          <a:stretch/>
        </p:blipFill>
        <p:spPr>
          <a:xfrm>
            <a:off x="6248520" y="762120"/>
            <a:ext cx="211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2C60-FA2C-42B5-82DB-44768A5FC881}" type="slidenum">
              <a:rPr b="0" lang="en-US" sz="2000" spc="-1" strike="noStrike">
                <a:solidFill>
                  <a:srgbClr val="ffffd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File:Eisenhower d-day.jpg"/>
          <p:cNvPicPr/>
          <p:nvPr/>
        </p:nvPicPr>
        <p:blipFill>
          <a:blip r:embed="rId1"/>
          <a:stretch/>
        </p:blipFill>
        <p:spPr>
          <a:xfrm>
            <a:off x="228600" y="1106640"/>
            <a:ext cx="7170840" cy="5751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. Eisenhower with D-Day troops; unconditional surren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040C-0931-42A9-AF29-D94019A8CCCC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ving Private Ry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ing in Normand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3E59-B177-4E37-B5BC-8BA8E90ECB60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s surrendering at   St.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t-lo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07B7-AB57-4822-9ADB-2E137A897A6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POW’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arislib2"/>
          <p:cNvPicPr/>
          <p:nvPr/>
        </p:nvPicPr>
        <p:blipFill>
          <a:blip r:embed="rId1"/>
          <a:stretch/>
        </p:blipFill>
        <p:spPr>
          <a:xfrm>
            <a:off x="304920" y="1805040"/>
            <a:ext cx="62481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2:44:08Z</dcterms:created>
  <dc:creator> </dc:creator>
  <dc:description/>
  <dc:language>en-US</dc:language>
  <cp:lastModifiedBy>SUPER</cp:lastModifiedBy>
  <dcterms:modified xsi:type="dcterms:W3CDTF">2012-02-15T02:07:35Z</dcterms:modified>
  <cp:revision>24</cp:revision>
  <dc:subject/>
  <dc:title>PowerPoint Presentation</dc:title>
</cp:coreProperties>
</file>